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66600" cy="12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0" y="0"/>
            <a:ext cx="11779200" cy="124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-11798280" y="-11796840"/>
            <a:ext cx="11779200" cy="12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-11798280" y="-11796840"/>
            <a:ext cx="11771280" cy="124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-11798280" y="-11796840"/>
            <a:ext cx="11790360" cy="124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B0F-42CB-4215-9806-C0ED9508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C96-5A70-4ABC-B58E-559EEF86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4E6-AD0D-46EF-9EB1-7C6C3CFD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62D-F89B-4864-8FEA-A55BF548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4CD-5460-4D1E-A195-A2209C80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FB0-1FE8-40D3-96C2-4412316E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F38-26FD-4649-BA42-432D836D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819-1068-48B2-8566-0C33B210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1CF-5214-4C00-B46D-67BB3F38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F2B-4309-4080-8A79-AAEE8657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EDB-9F29-4B51-8FB6-705ADDA6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74A-2161-47A7-8749-C9D55D2B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F2B72-E32E-49FB-90B7-C3FFFEBED9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rial"/>
              </a:rPr>
              <a:t>Школьные службы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38200" y="2421000"/>
            <a:ext cx="6265800" cy="41259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Скрытые (многолетние) конфли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рупповое давление, отвержение, бой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мыкание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033800" cy="39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5364000" y="2419200"/>
            <a:ext cx="2632320" cy="41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Направление к психол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Школьники говорили нам, что окружающие ребята начинают относиться как к «психа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Часто визит к психологу  воспринимается как нечто вынужденное и непонятное или как иг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0" b="8988"/>
          <a:stretch/>
        </p:blipFill>
        <p:spPr>
          <a:xfrm>
            <a:off x="5364000" y="1628640"/>
            <a:ext cx="3308400" cy="424980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6372360" y="4365720"/>
            <a:ext cx="1655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 не псих 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Органы школьного само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1835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большинстве случаев повторя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, которые используют взрослые н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едсов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или заседа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КДН, поскольку другой модели подростки не ви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ичем порой они поступают более же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используют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уг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ы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, поскольку не имеют взрослой разу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09840" y="2962440"/>
            <a:ext cx="338616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090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Школьные инсп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9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авят целью выявление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нарушений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постановк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у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результате то, что могло решаться между участниками (или с использованием  педагогических методов) порой становится поводом для формального процесса и еще большего разобщения или клеймени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Что общего у этих спосо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ешение о способе выхода из конфликта принимают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не сами участники ситуации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а кто-то другой навязывает им св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 этом часто использую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ласть и административное давление (взрослые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изическую силу (дети на «стрелках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сихологическое д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анипуля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539280"/>
            <a:ext cx="82090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ечно, всегда есть ситуации, где нужно вмешательство правоохранительных органов, где нужна помощь психолога или 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ВОПРОС В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ПРЕДОСТАВЛЯЕМ ЛИ МЫ В ПЕРВУЮ ОЧЕРЕДЬ ВОЗМОЖНОСТЬ САМИМ ЛЮДЯМ РЕШИТЬ СВОЮ СИТУ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Восстановительный способ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28480"/>
            <a:ext cx="860436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стреча людей за СТОЛОМ ПЕРЕГОВОРОВ, где они смогут 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бсудить последствия конфликта и избавиться от негативных эмоц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амим найти устраивающие всех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нять, как избежать повторения конфликта в будущем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888000" cy="2560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11120" y="53964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могут ли стороны, находящиеся в сильной стрессовой ситуации,  испытывающие сильные эмоции страха, обиды, ненависти, предубеждения друг по отношению к другу  и т.д. говорить конструктивн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о очень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им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Нейтральный поср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Медиатор)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600200" y="16002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Цель работы ведущего (медиатора) - организовать такой диалог, который инициирует взаимопонимание, восстановительные действия и групповое принятие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меди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120" y="123192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равной степени поддерживает участников, организует конструктивный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Не  судит, не защищает, не поучает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пособствует тому, чтобы обидчик возместил причиненный в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Медиатор организует примирительную встречу только при добровольном участии обеих сторон. Для этого он предварительно встречается с  каждым из участников отд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3920" y="1112400"/>
            <a:ext cx="864252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школе собраны дети (и взрослые) из разных социальных слоев, разных национальностей, разных стилей воспитания и т.д., что создает потенциально конфликтную среду, в которой школьники обязаны находиться большую часть сво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18812" t="27732" r="0" b="9785"/>
          <a:stretch/>
        </p:blipFill>
        <p:spPr>
          <a:xfrm>
            <a:off x="1079640" y="3927600"/>
            <a:ext cx="71992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Понятие ответ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ственность понимается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не как наказани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а как понимание обидчиком чувств потерпевшего,  негативных последствий, к ко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 привело правонару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как исправление причиненного вреда самим обидч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медиатор  поддерживает ответственное поведение участников вст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123300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фликт должен быть решен его непосредственными участниками, поскольку только они смогут найти лучшее реш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и приняли на себя ответственность за решение, то наверняка его выполнят и больше не попадут в подобную ситу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Медиация рове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 школах вместе со взрослыми медиаторами становятся подростки, поскольку у них наиболее тесный контакт со сверстни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рослым подростки часто не доверяют или боятся прослыть «стукачами»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1120" y="41760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и представления, полученные ведущими в ходе проведения примирительной встречи, по качеству превосходят  искусственные ситуации на тренинге и понадобятся подросткам в их жизни. Поэтому чем больше из них освоят деятельность ведущего, — тем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36480" y="1239840"/>
            <a:ext cx="793116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09560" indent="-252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Чтобы процесс медиации был не случайным и ситуативным, важно вписать школьную медиацию в структуру школы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лужба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3200" y="984240"/>
            <a:ext cx="864072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примирения -  организационная форма, в которой определе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куда поступает информация о конфлик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то и где проводит встреч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реагирует администрация  в случае примирения сторо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 осуществляется подготовка ведущих, как окружающие узнают про служб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ая будет документация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3480" y="25992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кольная служба прим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00080" y="1428840"/>
            <a:ext cx="7488360" cy="24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зросло-детская ком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учшение отношений в школе и поддержка воспи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Решение ситуаций взаимоотношений между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Обсуждение це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ректору школ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611280" y="119700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В школе начнет создаваться инновационная практика примирени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иск жалоб в управление образования будет сниж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Школа станет более комфортной для учеников и более привлекательной на данной территории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Сам директор будет тратить меньше времени на разбор конфликтов, освобождая время для более важных задач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Отношения в его школе будут улучш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Ценности восстановительной медиации станут распространяться среди учеников и педагогов школы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азгрузит работу Конфликтной комиссии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дагог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611280" y="1197000"/>
            <a:ext cx="748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управлять школьными конфлик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использовать конфликты как воспитательную ситуацию, которая при правильной организации может помочь развитию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сстановление душевного равновесия в ходе «Кругов», применяемых для работы с профессиональным выгоранием педаг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риобретение новых знаний и практических навыков в области примирения, выстраивания межличностных отношений в детской и детско-взрослой среде, развитие методов и форм гражданского образования и воспитания, социализации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Инструменты для разрешения трудных ситуаций и конфли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Овладение подходами и приемами для поддержания порядка в детской сре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крепление роли школьного само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108000" y="1197000"/>
            <a:ext cx="8785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конструктивно общаться со сверстниками и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убеждать других словами, а не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частвовать в интересной «взрослой» и общественно-полезной (волонтерской)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самоорганизации, стать более ответственными и культур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нормально выходить из конфликта, ссоры, обиды, чтобы конфликты не перерастали в правонаруш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огать другим помириться (своим друзьям, сверстникам и родителя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чать осваивать новую профессию - «медиатор», получить уникальные навыки и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миро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Лучше понимать сверстников и взрослых: родителей и уч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Школьникам, пострадавшим от правонарушений, почувствовать себя в безопасност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верить, что справедливость восстановлена и нет враждебности и угрозы со стороны других реб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148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Для большинства подростков в школе главными являются не полученные знания, а вопросы статуса, общения, коммуникации, власти 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Школа мало помогает  освоению  детьми цивилизованных навыков коммуникации в сложных и напряженных ситуациях, культурных форм повышения авторите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961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611280" y="2421000"/>
            <a:ext cx="828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 детей-обидчиков в ходе медиации появляется возможность понять другую сторон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ириться, проявить раскаяние, посильно возместить причиненный вред, принести извинения и услышать слова прощения, осознать причины своего поступка и понять, что нужно делать, чтобы в дальнейшем не причинять вред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Детям-правонарушителям восстановительная программа дает возможность не чувствовать себя «хулиганом» или человеком, которым взрослые всегда недовольны, восстановить хорошее отношение со стороны ребят, родителей и педагогов, планировать для себя такое будущее, которое поможет избежать попадания в ситуации сильных конфликтов или правонару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771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ратег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азвития восстановительной медиации в России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держка  ассоциаций медиаторов и кураторов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связки ШСП и воспитания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идеи детского сообщества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льнейшее развитие идей восстановительной медиации и подходов к управлению на основе восстановительной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060280"/>
            <a:ext cx="81961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что получается, что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ирения – это хорош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и незнакомый. Это путь, кото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 уважать себя и других и 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 за свои поступки и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последствия. Путь, который н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ослые (которые в сущности те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) готовы пройти без сомнени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еб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ор АНО «Ураль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ации        Махнева О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заключении мир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победивших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новится в два раза больш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120" y="1079280"/>
            <a:ext cx="82296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Никакой ребенок не будет думать об уроке, если у него конфликт или он стал жертвой нас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Если  не урегулируются настоящие причины конфликта, если не происходит работа с чувствами участников конфликта,  если участниками не осознаются негативные последствия конфликта, то конфликт остается нерешенным.  И, скорее всего, возникнет вновь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539280"/>
            <a:ext cx="82296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Конфликт или криминальная ситуация травмирует душу и психику как обидчика, так и пострадавшег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обенно, если они вынуждены продолжать встречаться да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в школе, училище, общежитии и т.п.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же если это не квалифицируется как право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Возможные способ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реагирования  школ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(не только взрослых)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на конфликт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и  криминальные ситу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дминистративно-кар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правление к психологу/социальному педаг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р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ередача в органы дет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сутствие реагирования - скрытые конфли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чителя рассматривают конфликт как зло, которое надо искоренять, или в крайнем случае избежать,  скры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астый способ реагирования  - поиск виноватого и  наказание (или угроза наказание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78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4104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Административно-кар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39640" y="1700280"/>
            <a:ext cx="37101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79360" indent="-279360" algn="ctr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к директор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на педсо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ликтную комисс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родителей, что ставит в непростую ситуацию 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20705" t="0" r="22623" b="0"/>
          <a:stretch/>
        </p:blipFill>
        <p:spPr>
          <a:xfrm>
            <a:off x="4859280" y="1484280"/>
            <a:ext cx="3646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3898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165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3300"/>
                </a:solidFill>
                <a:latin typeface="Arial"/>
              </a:rPr>
              <a:t>Стрел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пытки детей самим решить конфликты с  использованием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stomer</dc:creator>
  <dc:description/>
  <dc:language>en-US</dc:language>
  <cp:lastModifiedBy>Пользователь Windows</cp:lastModifiedBy>
  <dcterms:modified xsi:type="dcterms:W3CDTF">2019-03-10T19:31:05Z</dcterms:modified>
  <cp:revision>27</cp:revision>
  <dc:subject/>
  <dc:title>Службы примирения  и воспитание</dc:title>
</cp:coreProperties>
</file>