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66600" cy="12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0" y="0"/>
            <a:ext cx="11779200" cy="1247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"/>
          <p:cNvSpPr/>
          <p:nvPr/>
        </p:nvSpPr>
        <p:spPr>
          <a:xfrm>
            <a:off x="-11798280" y="-11796840"/>
            <a:ext cx="11779200" cy="124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-11798280" y="-11796840"/>
            <a:ext cx="11771280" cy="1246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-11798280" y="-11796840"/>
            <a:ext cx="11790360" cy="1248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7EDA-2D67-4126-88E0-072CA48E8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9612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47040"/>
            <a:ext cx="819612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4AA0-9C34-4458-8AF1-173C4918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696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2853-91AB-47FC-967F-3B41B0DA5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8120" y="160020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9040" y="160020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4704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8120" y="394704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9040" y="394704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BA79-5799-4B98-8499-F26710A73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57A5-187F-46D2-9061-2FABF633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9D91-B6A3-4D14-BE8D-B4E27830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BBF9-9435-4ABB-8BD3-226E6BDC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60F1-FBC1-4396-B2B2-C40DF777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19612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80DC-39A3-4698-A517-3DCB2A3A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7360-D8B5-4778-B67C-28A596FF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696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1598-B47C-4DA5-A5CE-D936B548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819612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ACF7-9D7F-4A59-BDB7-DAA446B2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5236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0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6236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0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6F7CD-0636-4447-99B5-CE123DB4BA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3300"/>
                </a:solidFill>
                <a:latin typeface="Arial"/>
              </a:rPr>
              <a:t>Школьные службы прими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438200" y="2421000"/>
            <a:ext cx="6265800" cy="412596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Скрытые (многолетние) конфлик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Групповое давление, отвержение, бойк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Замыкание в с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4033800" cy="3990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5364000" y="2419200"/>
            <a:ext cx="2632320" cy="4105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Направление к психолог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Школьники говорили нам, что окружающие ребята начинают относиться как к «психам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Часто визит к психологу  воспринимается как нечто вынужденное и непонятное или как иг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rcRect l="0" t="0" r="0" b="8988"/>
          <a:stretch/>
        </p:blipFill>
        <p:spPr>
          <a:xfrm>
            <a:off x="5364000" y="1628640"/>
            <a:ext cx="3308400" cy="4249800"/>
          </a:xfrm>
          <a:prstGeom prst="rect">
            <a:avLst/>
          </a:prstGeom>
          <a:ln w="0">
            <a:noFill/>
          </a:ln>
        </p:spPr>
      </p:pic>
      <p:sp>
        <p:nvSpPr>
          <p:cNvPr id="93" name="WordArt 4"/>
          <p:cNvSpPr txBox="1"/>
          <p:nvPr/>
        </p:nvSpPr>
        <p:spPr>
          <a:xfrm>
            <a:off x="6372360" y="4365720"/>
            <a:ext cx="1655640" cy="12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 не псих !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Органы школьного самоупра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39640"/>
            <a:ext cx="8183520" cy="51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В большинстве случаев повторяют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ели, которые используют взрослые на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педсове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или заседан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КДН, поскольку другой модели подростки не виде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Причем порой они поступают более жес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ко 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о используют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угр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ы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, поскольку не имеют взрослой разум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2409840" y="2962440"/>
            <a:ext cx="3386160" cy="22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73160"/>
            <a:ext cx="820908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3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Школьные инспект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90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тавят целью выявление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нарушений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и постановку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хся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а уч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 результате то, что могло решаться между участниками (или с использованием  педагогических методов) порой становится поводом для формального процесса и еще большего разобщения или клеймения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Что общего у этих способо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1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Решение о способе выхода из конфликта принимают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не сами участники ситуации,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а кто-то другой навязывает им свое 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ри этом часто использую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ласть и административное давление (взрослые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физическую силу (дети на «стрелках»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сихологическое дав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манипуля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539280"/>
            <a:ext cx="8209080" cy="55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онечно, всегда есть ситуации, где нужно вмешательство правоохранительных органов, где нужна помощь психолога или  педаг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О ВОПРОС В 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</a:rPr>
              <a:t>ПРЕДОСТАВЛЯЕМ ЛИ МЫ В ПЕРВУЮ ОЧЕРЕДЬ ВОЗМОЖНОСТЬ САМИМ ЛЮДЯМ РЕШИТЬ СВОЮ СИТУАЦ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Восстановительный способ</a:t>
            </a: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 в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1428480"/>
            <a:ext cx="8604360" cy="27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стреча людей за СТОЛОМ ПЕРЕГОВОРОВ, где они смогут с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Обсудить последствия конфликта и избавиться от негативных эмоц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Самим найти устраивающие всех реш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7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онять, как избежать повторения конфликта в будущем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3132000" y="4005360"/>
            <a:ext cx="3888000" cy="25606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11120" y="539640"/>
            <a:ext cx="822960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о могут ли стороны, находящиеся в сильной стрессовой ситуации,  испытывающие сильные эмоции страха, обиды, ненависти, предубеждения друг по отношению к другу  и т.д. говорить конструктивно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Это очень тру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этому им нуж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Нейтральный посред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Медиатор)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600200" y="1600200"/>
            <a:ext cx="6781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Цель работы ведущего (медиатора) - организовать такой диалог, который инициирует взаимопонимание, восстановительные действия и групповое принятие реш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медиа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1120" y="1231920"/>
            <a:ext cx="822960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-299880">
              <a:lnSpc>
                <a:spcPct val="70000"/>
              </a:lnSpc>
              <a:spcBef>
                <a:spcPts val="1562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В равной степени поддерживает участников, организует конструктивный диа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-299880">
              <a:lnSpc>
                <a:spcPct val="70000"/>
              </a:lnSpc>
              <a:spcBef>
                <a:spcPts val="1562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Не  судит, не защищает, не поучает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-299880">
              <a:lnSpc>
                <a:spcPct val="70000"/>
              </a:lnSpc>
              <a:spcBef>
                <a:spcPts val="1562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Способствует тому, чтобы обидчик возместил причиненный вре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-299880">
              <a:lnSpc>
                <a:spcPct val="70000"/>
              </a:lnSpc>
              <a:spcBef>
                <a:spcPts val="1562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Медиатор организует примирительную встречу только при добровольном участии обеих сторон. Для этого он предварительно встречается с  каждым из участников отдель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Ситуация в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3920" y="1112400"/>
            <a:ext cx="864252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 школе собраны дети (и взрослые) из разных социальных слоев, разных национальностей, разных стилей воспитания и т.д., что создает потенциально конфликтную среду, в которой школьники обязаны находиться большую часть свое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rcRect l="18812" t="27732" r="0" b="9785"/>
          <a:stretch/>
        </p:blipFill>
        <p:spPr>
          <a:xfrm>
            <a:off x="1079640" y="3927600"/>
            <a:ext cx="7199280" cy="26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Понятие ответств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тветственность понимается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не как наказани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а как понимание обидчиком чувств потерпевшего,  негативных последствий, к кот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ы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м привело правонару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и как исправление причиненного вреда самим обидчи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этому медиатор  поддерживает ответственное поведение участников вст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1233000"/>
            <a:ext cx="8229600" cy="45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4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фликт должен быть решен его непосредственными участниками, поскольку только они смогут найти лучшее решени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они приняли на себя ответственность за решение, то наверняка его выполнят и больше не попадут в подобную ситуац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Медиация ровес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В  школах вместе со взрослыми медиаторами становятся подростки, поскольку у них наиболее тесный контакт со сверстник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зрослым подростки часто не доверяют или боятся прослыть «стукачами»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11120" y="417600"/>
            <a:ext cx="8229600" cy="58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ыки и представления, полученные ведущими в ходе проведения примирительной встречи, по качеству превосходят  искусственные ситуации на тренинге и понадобятся подросткам в их жизни. Поэтому чем больше из них освоят деятельность ведущего, — тем лучш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636480" y="1239840"/>
            <a:ext cx="793116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709560" indent="-2523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70956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969336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Чтобы процесс медиации был не случайным и ситуативным, важно вписать школьную медиацию в структуру школы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Служба прими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03200" y="984240"/>
            <a:ext cx="8640720" cy="58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лужба примирения -  организационная форма, в которой определен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ткуда поступает информация о конфликта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то и где проводит встречи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ак реагирует администрация  в случае примирения сторон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ак  осуществляется подготовка ведущих, как окружающие узнают про служб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акая будет документация и т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63480" y="25992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Школьная служба прими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000080" y="1428840"/>
            <a:ext cx="7488360" cy="24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Взросло-детская коман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Цель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лучшение отношений в школе и поддержка воспит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spcBef>
                <a:spcPts val="112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9999"/>
                </a:solidFill>
                <a:latin typeface="Arial"/>
              </a:rPr>
              <a:t>Решение ситуаций взаимоотношений между людь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spcBef>
                <a:spcPts val="112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9999"/>
                </a:solidFill>
                <a:latin typeface="Arial"/>
              </a:rPr>
              <a:t>Обсуждение ценнос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9"/>
          <p:cNvSpPr/>
          <p:nvPr/>
        </p:nvSpPr>
        <p:spPr>
          <a:xfrm>
            <a:off x="6286680" y="2133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395280" y="360360"/>
            <a:ext cx="77040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м служба примирения может помоч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иректору школы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1"/>
          <p:cNvSpPr/>
          <p:nvPr/>
        </p:nvSpPr>
        <p:spPr>
          <a:xfrm>
            <a:off x="611280" y="1197000"/>
            <a:ext cx="748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В школе начнет создаваться инновационная практика примирения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Риск жалоб в управление образования будет снижаться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Школа станет более комфортной для учеников и более привлекательной на данной территории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Сам директор будет тратить меньше времени на разбор конфликтов, освобождая время для более важных задач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Отношения в его школе будут улучшаться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Ценности восстановительной медиации станут распространяться среди учеников и педагогов школы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Разгрузит работу Конфликтной комиссии в шко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9"/>
          <p:cNvSpPr/>
          <p:nvPr/>
        </p:nvSpPr>
        <p:spPr>
          <a:xfrm>
            <a:off x="6286680" y="2133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395280" y="360360"/>
            <a:ext cx="77040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м служба примирения может помоч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дагогу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1"/>
          <p:cNvSpPr/>
          <p:nvPr/>
        </p:nvSpPr>
        <p:spPr>
          <a:xfrm>
            <a:off x="611280" y="1197000"/>
            <a:ext cx="7488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Возможность управлять школьными конфликт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Возможность использовать конфликты как воспитательную ситуацию, которая при правильной организации может помочь развитию школь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Восстановление душевного равновесия в ходе «Кругов», применяемых для работы с профессиональным выгоранием педагог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Приобретение новых знаний и практических навыков в области примирения, выстраивания межличностных отношений в детской и детско-взрослой среде, развитие методов и форм гражданского образования и воспитания, социализации школь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Инструменты для разрешения трудных ситуаций и конфлик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Овладение подходами и приемами для поддержания порядка в детской сред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Укрепление роли школьного самоуправ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9"/>
          <p:cNvSpPr/>
          <p:nvPr/>
        </p:nvSpPr>
        <p:spPr>
          <a:xfrm>
            <a:off x="6286680" y="2133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95280" y="360360"/>
            <a:ext cx="77040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м служба примирения может помоч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кольнику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1"/>
          <p:cNvSpPr/>
          <p:nvPr/>
        </p:nvSpPr>
        <p:spPr>
          <a:xfrm>
            <a:off x="108000" y="1197000"/>
            <a:ext cx="8785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учиться конструктивно общаться со сверстниками и взросл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учиться убеждать других словами, а не сил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Участвовать в интересной «взрослой» и общественно-полезной (волонтерской)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учиться самоорганизации, стать более ответственными и культур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учиться нормально выходить из конфликта, ссоры, обиды, чтобы конфликты не перерастали в правонаруш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Помогать другим помириться (своим друзьям, сверстникам и родителям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чать осваивать новую профессию - «медиатор», получить уникальные навыки и опы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миротворческой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Лучше понимать сверстников и взрослых: родителей и учи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Школьникам, пострадавшим от правонарушений, почувствовать себя в безопасности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поверить, что справедливость восстановлена и нет враждебности и угрозы со стороны других ребя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71280"/>
            <a:ext cx="8229600" cy="9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Ситуация в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514836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Для большинства подростков в школе главными являются не полученные знания, а вопросы статуса, общения, коммуникации, власти 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Школа мало помогает  освоению  детьми цивилизованных навыков коммуникации в сложных и напряженных ситуациях, культурных форм повышения авторитет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5003640" y="1700280"/>
            <a:ext cx="396108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9"/>
          <p:cNvSpPr/>
          <p:nvPr/>
        </p:nvSpPr>
        <p:spPr>
          <a:xfrm>
            <a:off x="6286680" y="2133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95280" y="360360"/>
            <a:ext cx="77040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м служба примирения может помоч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кольнику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1"/>
          <p:cNvSpPr/>
          <p:nvPr/>
        </p:nvSpPr>
        <p:spPr>
          <a:xfrm>
            <a:off x="611280" y="2421000"/>
            <a:ext cx="8281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У детей-обидчиков в ходе медиации появляется возможность понять другую сторон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помириться, проявить раскаяние, посильно возместить причиненный вред, принести извинения и услышать слова прощения, осознать причины своего поступка и понять, что нужно делать, чтобы в дальнейшем не причинять вред другим люд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Детям-правонарушителям восстановительная программа дает возможность не чувствовать себя «хулиганом» или человеком, которым взрослые всегда недовольны, восстановить хорошее отношение со стороны ребят, родителей и педагогов, планировать для себя такое будущее, которое поможет избежать попадания в ситуации сильных конфликтов или правонаруш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2771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т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ратегия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развития восстановительной медиации в России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ддержка  ассоциаций медиаторов и кураторов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Разработка связки ШСП и воспитания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Разработка идеи детского сообщества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Дальнейшее развитие идей восстановительной медиации и подходов к управлению на основе восстановительной меди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2060280"/>
            <a:ext cx="819612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 что получается, что служ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ирения – это хороши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тя и незнакомый. Это путь, кото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 уважать себя и других и б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ственность за свои поступки и 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х последствия. Путь, который не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рослые (которые в сущности те 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и) готовы пройти без сомнений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еб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84760" indent="-28476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ct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ректор АНО «Уральский цен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диации        Махнева О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и заключении мира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победивших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ановится в два раза больш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Ситуация в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1120" y="1079280"/>
            <a:ext cx="8229600" cy="54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109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Никакой ребенок не будет думать об уроке, если у него конфликт или он стал жертвой наси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109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Если  не урегулируются настоящие причины конфликта, если не происходит работа с чувствами участников конфликта,  если участниками не осознаются негативные последствия конфликта, то конфликт остается нерешенным.  И, скорее всего, возникнет вновь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539280"/>
            <a:ext cx="8229600" cy="60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Конфликт или криминальная ситуация травмирует душу и психику как обидчика, так и пострадавшего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собенно, если они вынуждены продолжать встречаться дальш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в школе, училище, общежитии и т.п.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Даже если это не квалифицируется как правонару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Возможные способы </a:t>
            </a: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реагирования  школы </a:t>
            </a: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(не только взрослых)</a:t>
            </a: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на конфликты </a:t>
            </a: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и  криминальные ситуац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923920"/>
            <a:ext cx="82296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Административно-каратель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аправление к психологу/социальному педаг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тре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ередача в органы детского самоуправ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тсутствие реагирования - скрытые конфли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Учи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844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-309600">
              <a:lnSpc>
                <a:spcPct val="78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Учителя рассматривают конфликт как зло, которое надо искоренять, или в крайнем случае избежать,  скры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8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Частый способ реагирования  - поиск виноватого и  наказание (или угроза наказанием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78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771640" y="3789360"/>
            <a:ext cx="410400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Административно-карате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539640" y="1700280"/>
            <a:ext cx="3710160" cy="44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279360" indent="-279360" algn="ctr">
              <a:lnSpc>
                <a:spcPct val="78000"/>
              </a:lnSpc>
              <a:spcBef>
                <a:spcPts val="1001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ызов к директор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ызов на педсове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фликтную комисс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ызов родителей, что ставит в непростую ситуацию  родит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rcRect l="20705" t="0" r="22623" b="0"/>
          <a:stretch/>
        </p:blipFill>
        <p:spPr>
          <a:xfrm>
            <a:off x="4859280" y="1484280"/>
            <a:ext cx="364644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3898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 algn="ctr">
              <a:lnSpc>
                <a:spcPct val="71000"/>
              </a:lnSpc>
              <a:spcBef>
                <a:spcPts val="165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600" spc="-1" strike="noStrike">
                <a:solidFill>
                  <a:srgbClr val="ff3300"/>
                </a:solidFill>
                <a:latin typeface="Arial"/>
              </a:rPr>
              <a:t>Стрел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пытки детей самим решить конфликты с  использованием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4500720" y="907920"/>
            <a:ext cx="4248000" cy="5113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ustomer</dc:creator>
  <dc:description/>
  <dc:language>en-US</dc:language>
  <cp:lastModifiedBy>Пользователь Windows</cp:lastModifiedBy>
  <dcterms:modified xsi:type="dcterms:W3CDTF">2019-03-10T19:31:05Z</dcterms:modified>
  <cp:revision>27</cp:revision>
  <dc:subject/>
  <dc:title>Службы примирения  и воспитание</dc:title>
</cp:coreProperties>
</file>